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72200" y="6400800"/>
            <a:ext cx="26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astair Watson, Leeds Univers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3400" y="76320"/>
            <a:ext cx="23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D4D4-22D4-4A49-92B0-ECFBACD5054A}" type="slidenum">
              <a:rPr b="1" lang="en-US" sz="2800" spc="-1" strike="noStrike">
                <a:solidFill>
                  <a:srgbClr val="d60093"/>
                </a:solidFill>
                <a:latin typeface="Arial"/>
              </a:rPr>
              <a:t>&lt;number&gt;</a:t>
            </a:fld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/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AISC CIS/2  Workshop #2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em 0.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lk-through the Translator Development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5560" y="498600"/>
            <a:ext cx="37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vine, CA: June 1999 (rev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5029200"/>
            <a:ext cx="3276720" cy="990720"/>
          </a:xfrm>
          <a:prstGeom prst="wedgeRoundRectCallout">
            <a:avLst>
              <a:gd name="adj1" fmla="val 46462"/>
              <a:gd name="adj2" fmla="val -110898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ing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5181480"/>
            <a:ext cx="3200400" cy="609840"/>
          </a:xfrm>
          <a:prstGeom prst="wedgeRoundRectCallout">
            <a:avLst>
              <a:gd name="adj1" fmla="val -13097"/>
              <a:gd name="adj2" fmla="val -220574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 existing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15080" y="2209680"/>
            <a:ext cx="2343600" cy="2467080"/>
            <a:chOff x="415080" y="2209680"/>
            <a:chExt cx="2343600" cy="2467080"/>
          </a:xfrm>
        </p:grpSpPr>
        <p:grpSp>
          <p:nvGrpSpPr>
            <p:cNvPr id="104" name=""/>
            <p:cNvGrpSpPr/>
            <p:nvPr/>
          </p:nvGrpSpPr>
          <p:grpSpPr>
            <a:xfrm>
              <a:off x="457200" y="2209680"/>
              <a:ext cx="2133360" cy="1524240"/>
              <a:chOff x="457200" y="2209680"/>
              <a:chExt cx="2133360" cy="1524240"/>
            </a:xfrm>
          </p:grpSpPr>
          <p:sp>
            <p:nvSpPr>
              <p:cNvPr id="105" name=""/>
              <p:cNvSpPr/>
              <p:nvPr/>
            </p:nvSpPr>
            <p:spPr>
              <a:xfrm>
                <a:off x="457200" y="22096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991080" y="23623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15080" y="3851280"/>
              <a:ext cx="23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Ex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2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523520" y="3293280"/>
            <a:ext cx="3543840" cy="1583640"/>
            <a:chOff x="1523520" y="3293280"/>
            <a:chExt cx="3543840" cy="1583640"/>
          </a:xfrm>
        </p:grpSpPr>
        <p:sp>
          <p:nvSpPr>
            <p:cNvPr id="126" name=""/>
            <p:cNvSpPr/>
            <p:nvPr/>
          </p:nvSpPr>
          <p:spPr>
            <a:xfrm rot="5400000">
              <a:off x="1599480" y="3733560"/>
              <a:ext cx="1067040" cy="1219320"/>
            </a:xfrm>
            <a:custGeom>
              <a:avLst/>
              <a:gdLst>
                <a:gd name="textAreaLeft" fmla="*/ 51840 w 1067040"/>
                <a:gd name="textAreaRight" fmla="*/ 1015200 w 1067040"/>
                <a:gd name="textAreaTop" fmla="*/ 51840 h 1219320"/>
                <a:gd name="textAreaBottom" fmla="*/ 1167480 h 1219320"/>
              </a:gdLst>
              <a:ahLst/>
              <a:rect l="textAreaLeft" t="textAreaTop" r="textAreaRight" b="textAreaBottom"/>
              <a:pathLst>
                <a:path w="21600" h="24682">
                  <a:moveTo>
                    <a:pt x="3600" y="0"/>
                  </a:moveTo>
                  <a:arcTo wR="3600" hR="3600" stAng="16200000" swAng="-5400000"/>
                  <a:lnTo>
                    <a:pt x="0" y="21082"/>
                  </a:lnTo>
                  <a:arcTo wR="3600" hR="3600" stAng="10800000" swAng="-5400000"/>
                  <a:lnTo>
                    <a:pt x="18000" y="246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22000">
              <a:off x="3200040" y="3886200"/>
              <a:ext cx="1828800" cy="533520"/>
            </a:xfrm>
            <a:prstGeom prst="leftArrow">
              <a:avLst>
                <a:gd name="adj1" fmla="val 50000"/>
                <a:gd name="adj2" fmla="val 8569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508000">
              <a:off x="3507480" y="350496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257800"/>
            <a:ext cx="2362320" cy="914400"/>
          </a:xfrm>
          <a:prstGeom prst="wedgeRoundRectCallout">
            <a:avLst>
              <a:gd name="adj1" fmla="val -3023"/>
              <a:gd name="adj2" fmla="val -116666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ort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43828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, a translator is able to export “only a subset” of the data that can be held by the application’s native data struct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43828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, the exporting application’s native data structures many not be fully populated with dat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Data Exchange File 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3080" y="2286000"/>
            <a:ext cx="781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5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PERTI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201, $, #216, #217, #218, $, $, $, $, $, $, $, #219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, $, $, $, $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6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3422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7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NERTI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20000.0), #115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8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AREA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950.0), #1161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19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17180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220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_WITH_UNI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MODULUS_MEASUR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8558.0), #1157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1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W1100X424', #302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2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_SOURCE_STANDA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'ASTM', 'ASTM_A6M', 1994, $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3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SECTION_PROFIL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2, 'W', 'Wide flange beam to ASTM', 'Plastic', $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304 = </a:t>
            </a: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ITEM_REFERENCE_ASSIGNE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#301, #30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09680"/>
            <a:ext cx="4495680" cy="22100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67080" y="2590920"/>
            <a:ext cx="266724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152280" y="3276720"/>
            <a:ext cx="4495680" cy="22096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3733920"/>
            <a:ext cx="0" cy="99036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257800"/>
            <a:ext cx="3505320" cy="990720"/>
          </a:xfrm>
          <a:prstGeom prst="wedgeRoundRectCallout">
            <a:avLst>
              <a:gd name="adj1" fmla="val -64629"/>
              <a:gd name="adj2" fmla="val -57532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data scop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ing applic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01600" y="1523880"/>
            <a:ext cx="2345040" cy="2467080"/>
            <a:chOff x="201600" y="1523880"/>
            <a:chExt cx="2345040" cy="2467080"/>
          </a:xfrm>
        </p:grpSpPr>
        <p:grpSp>
          <p:nvGrpSpPr>
            <p:cNvPr id="145" name=""/>
            <p:cNvGrpSpPr/>
            <p:nvPr/>
          </p:nvGrpSpPr>
          <p:grpSpPr>
            <a:xfrm>
              <a:off x="244440" y="1523880"/>
              <a:ext cx="2133360" cy="1524240"/>
              <a:chOff x="244440" y="1523880"/>
              <a:chExt cx="2133360" cy="1524240"/>
            </a:xfrm>
          </p:grpSpPr>
          <p:sp>
            <p:nvSpPr>
              <p:cNvPr id="146" name=""/>
              <p:cNvSpPr/>
              <p:nvPr/>
            </p:nvSpPr>
            <p:spPr>
              <a:xfrm>
                <a:off x="244440" y="15238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20" y="16765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1600" y="3165480"/>
              <a:ext cx="234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</a:t>
              </a:r>
              <a:r>
                <a:rPr b="1" i="1" lang="en-US" sz="2400" spc="-1" strike="noStrike">
                  <a:solidFill>
                    <a:srgbClr val="00ffff"/>
                  </a:solidFill>
                  <a:latin typeface="Times New Roman"/>
                </a:rPr>
                <a:t>Impor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2438280"/>
            <a:ext cx="7391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An import translator may have the potential to populate “only a subset” of the application’s native data structure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Objectiv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vide a rapid introduc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54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1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68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69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75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2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04920" y="1676520"/>
            <a:ext cx="2133360" cy="2059920"/>
            <a:chOff x="304920" y="1676520"/>
            <a:chExt cx="2133360" cy="2059920"/>
          </a:xfrm>
        </p:grpSpPr>
        <p:grpSp>
          <p:nvGrpSpPr>
            <p:cNvPr id="189" name=""/>
            <p:cNvGrpSpPr/>
            <p:nvPr/>
          </p:nvGrpSpPr>
          <p:grpSpPr>
            <a:xfrm>
              <a:off x="304920" y="1676520"/>
              <a:ext cx="2133360" cy="1523880"/>
              <a:chOff x="304920" y="1676520"/>
              <a:chExt cx="2133360" cy="1523880"/>
            </a:xfrm>
          </p:grpSpPr>
          <p:sp>
            <p:nvSpPr>
              <p:cNvPr id="190" name=""/>
              <p:cNvSpPr/>
              <p:nvPr/>
            </p:nvSpPr>
            <p:spPr>
              <a:xfrm>
                <a:off x="304920" y="1676520"/>
                <a:ext cx="2133360" cy="152388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880" y="182880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456840" y="3276720"/>
              <a:ext cx="152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Within C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cope of Translation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905120"/>
            <a:ext cx="2362320" cy="990360"/>
          </a:xfrm>
          <a:prstGeom prst="wedgeRoundRectCallout">
            <a:avLst>
              <a:gd name="adj1" fmla="val 6046"/>
              <a:gd name="adj2" fmla="val 13942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xported 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1905120"/>
            <a:ext cx="2361960" cy="990360"/>
          </a:xfrm>
          <a:prstGeom prst="wedgeRoundRectCallout">
            <a:avLst>
              <a:gd name="adj1" fmla="val 7527"/>
              <a:gd name="adj2" fmla="val 99037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p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P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Arial"/>
              </a:rPr>
              <a:t>Scope!</a:t>
            </a:r>
            <a:endParaRPr b="1" lang="en-US" sz="8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274320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ically a translator will employ “only a subset” of the neutral data structure defined by the LP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“subsets”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15994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3429000"/>
            <a:ext cx="7391520" cy="26668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35046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533340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7085880" y="3733560"/>
            <a:ext cx="1067040" cy="121932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1219320"/>
              <a:gd name="textAreaBottom" fmla="*/ 1167480 h 1219320"/>
            </a:gdLst>
            <a:ahLst/>
            <a:rect l="textAreaLeft" t="textAreaTop" r="textAreaRight" b="textAreaBottom"/>
            <a:pathLst>
              <a:path w="21600" h="24682">
                <a:moveTo>
                  <a:pt x="3600" y="0"/>
                </a:moveTo>
                <a:arcTo wR="3600" hR="3600" stAng="16200000" swAng="-5400000"/>
                <a:lnTo>
                  <a:pt x="0" y="21082"/>
                </a:lnTo>
                <a:arcTo wR="3600" hR="3600" stAng="10800000" swAng="-5400000"/>
                <a:lnTo>
                  <a:pt x="18000" y="246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438280" y="3733560"/>
            <a:ext cx="1066680" cy="2286000"/>
          </a:xfrm>
          <a:custGeom>
            <a:avLst/>
            <a:gdLst>
              <a:gd name="textAreaLeft" fmla="*/ 51840 w 1066680"/>
              <a:gd name="textAreaRight" fmla="*/ 1014840 w 1066680"/>
              <a:gd name="textAreaTop" fmla="*/ 51840 h 2286000"/>
              <a:gd name="textAreaBottom" fmla="*/ 2234160 h 2286000"/>
            </a:gdLst>
            <a:ahLst/>
            <a:rect l="textAreaLeft" t="textAreaTop" r="textAreaRight" b="textAreaBottom"/>
            <a:pathLst>
              <a:path w="21600" h="46283">
                <a:moveTo>
                  <a:pt x="3600" y="0"/>
                </a:moveTo>
                <a:arcTo wR="3600" hR="3600" stAng="16200000" swAng="-5400000"/>
                <a:lnTo>
                  <a:pt x="0" y="42683"/>
                </a:lnTo>
                <a:arcTo wR="3600" hR="3600" stAng="10800000" swAng="-5400000"/>
                <a:lnTo>
                  <a:pt x="18000" y="462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5400000">
            <a:off x="4609440" y="2933640"/>
            <a:ext cx="1067040" cy="4190760"/>
          </a:xfrm>
          <a:custGeom>
            <a:avLst/>
            <a:gdLst>
              <a:gd name="textAreaLeft" fmla="*/ 51840 w 1067040"/>
              <a:gd name="textAreaRight" fmla="*/ 1015200 w 1067040"/>
              <a:gd name="textAreaTop" fmla="*/ 51840 h 4190760"/>
              <a:gd name="textAreaBottom" fmla="*/ 4138920 h 4190760"/>
            </a:gdLst>
            <a:ahLst/>
            <a:rect l="textAreaLeft" t="textAreaTop" r="textAreaRight" b="textAreaBottom"/>
            <a:pathLst>
              <a:path w="21600" h="84812">
                <a:moveTo>
                  <a:pt x="3600" y="0"/>
                </a:moveTo>
                <a:arcTo wR="3600" hR="3600" stAng="16200000" swAng="-5400000"/>
                <a:lnTo>
                  <a:pt x="0" y="81212"/>
                </a:lnTo>
                <a:arcTo wR="3600" hR="3600" stAng="10800000" swAng="-5400000"/>
                <a:lnTo>
                  <a:pt x="18000" y="848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067360" y="2628360"/>
            <a:ext cx="2286000" cy="41911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4191120"/>
              <a:gd name="textAreaBottom" fmla="*/ 4079520 h 4191120"/>
            </a:gdLst>
            <a:ahLst/>
            <a:rect l="textAreaLeft" t="textAreaTop" r="textAreaRight" b="textAreaBottom"/>
            <a:pathLst>
              <a:path w="21600" h="39598">
                <a:moveTo>
                  <a:pt x="3600" y="0"/>
                </a:moveTo>
                <a:arcTo wR="3600" hR="3600" stAng="16200000" swAng="-5400000"/>
                <a:lnTo>
                  <a:pt x="0" y="35998"/>
                </a:lnTo>
                <a:arcTo wR="3600" hR="3600" stAng="10800000" swAng="-5400000"/>
                <a:lnTo>
                  <a:pt x="18000" y="395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183880" y="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5400000">
            <a:off x="2590560" y="3504960"/>
            <a:ext cx="685800" cy="838080"/>
          </a:xfrm>
          <a:custGeom>
            <a:avLst/>
            <a:gdLst>
              <a:gd name="textAreaLeft" fmla="*/ 33480 w 685800"/>
              <a:gd name="textAreaRight" fmla="*/ 652320 w 685800"/>
              <a:gd name="textAreaTop" fmla="*/ 33480 h 838080"/>
              <a:gd name="textAreaBottom" fmla="*/ 804600 h 838080"/>
            </a:gdLst>
            <a:ahLst/>
            <a:rect l="textAreaLeft" t="textAreaTop" r="textAreaRight" b="textAreaBottom"/>
            <a:pathLst>
              <a:path w="21600" h="26394">
                <a:moveTo>
                  <a:pt x="3600" y="0"/>
                </a:moveTo>
                <a:arcTo wR="3600" hR="3600" stAng="16200000" swAng="-5400000"/>
                <a:lnTo>
                  <a:pt x="0" y="22794"/>
                </a:lnTo>
                <a:arcTo wR="3600" hR="3600" stAng="10800000" swAng="-5400000"/>
                <a:lnTo>
                  <a:pt x="18000" y="263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1790640" y="483876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621036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4457160" y="4304880"/>
            <a:ext cx="1371600" cy="838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048440" y="4686480"/>
            <a:ext cx="137160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ome Basic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onformance Classe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Logical subset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pre-defined by CIS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many and overl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singly or in comb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ope and specify trans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st conformance again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rt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m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ative data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xported data held in neutral data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mport Translator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urce data held in neutral data structures of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data exchange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relevant data into native data struc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 by CC Comb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te log 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mported data held in native date structures of the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8120" y="34668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224720" y="2590920"/>
            <a:ext cx="3870360" cy="2057400"/>
            <a:chOff x="1224720" y="2590920"/>
            <a:chExt cx="3870360" cy="2057400"/>
          </a:xfrm>
        </p:grpSpPr>
        <p:sp>
          <p:nvSpPr>
            <p:cNvPr id="226" name=""/>
            <p:cNvSpPr/>
            <p:nvPr/>
          </p:nvSpPr>
          <p:spPr>
            <a:xfrm flipH="1" rot="10800000">
              <a:off x="1676520" y="3124080"/>
              <a:ext cx="1295280" cy="152424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4720" y="2590920"/>
              <a:ext cx="3870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PM defined in EXPRES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295280" y="3962520"/>
            <a:ext cx="6629400" cy="2197080"/>
            <a:chOff x="1295280" y="3962520"/>
            <a:chExt cx="6629400" cy="2197080"/>
          </a:xfrm>
        </p:grpSpPr>
        <p:sp>
          <p:nvSpPr>
            <p:cNvPr id="229" name=""/>
            <p:cNvSpPr/>
            <p:nvPr/>
          </p:nvSpPr>
          <p:spPr>
            <a:xfrm rot="5400000">
              <a:off x="6057360" y="3848040"/>
              <a:ext cx="1295280" cy="15238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5334120"/>
              <a:ext cx="66294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components (configured to LPM) to facilitate translator implement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mplementation Toolki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3695760" y="2247840"/>
            <a:ext cx="1295280" cy="152424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881000"/>
            <a:ext cx="2895480" cy="1373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implementation toolk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3657600"/>
            <a:ext cx="6172200" cy="26668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25680" y="4326120"/>
            <a:ext cx="1518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DA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392720" y="3909960"/>
            <a:ext cx="2666880" cy="754200"/>
            <a:chOff x="4392720" y="3909960"/>
            <a:chExt cx="2666880" cy="754200"/>
          </a:xfrm>
        </p:grpSpPr>
        <p:sp>
          <p:nvSpPr>
            <p:cNvPr id="237" name=""/>
            <p:cNvSpPr/>
            <p:nvPr/>
          </p:nvSpPr>
          <p:spPr>
            <a:xfrm>
              <a:off x="4392720" y="3909960"/>
              <a:ext cx="2666880" cy="754200"/>
            </a:xfrm>
            <a:prstGeom prst="rightArrow">
              <a:avLst>
                <a:gd name="adj1" fmla="val 75000"/>
                <a:gd name="adj2" fmla="val 17681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01000" y="4057920"/>
              <a:ext cx="19216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Writ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392720" y="4846680"/>
            <a:ext cx="2802600" cy="754200"/>
            <a:chOff x="4392720" y="4846680"/>
            <a:chExt cx="2802600" cy="754200"/>
          </a:xfrm>
        </p:grpSpPr>
        <p:sp>
          <p:nvSpPr>
            <p:cNvPr id="240" name=""/>
            <p:cNvSpPr/>
            <p:nvPr/>
          </p:nvSpPr>
          <p:spPr>
            <a:xfrm flipH="1">
              <a:off x="4392720" y="4846680"/>
              <a:ext cx="2743200" cy="754200"/>
            </a:xfrm>
            <a:prstGeom prst="rightArrow">
              <a:avLst>
                <a:gd name="adj1" fmla="val 75000"/>
                <a:gd name="adj2" fmla="val 181878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6520" y="4994280"/>
              <a:ext cx="2098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File Read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62400" y="3809880"/>
            <a:ext cx="2037600" cy="2350440"/>
            <a:chOff x="2462400" y="3809880"/>
            <a:chExt cx="2037600" cy="2350440"/>
          </a:xfrm>
        </p:grpSpPr>
        <p:grpSp>
          <p:nvGrpSpPr>
            <p:cNvPr id="243" name=""/>
            <p:cNvGrpSpPr/>
            <p:nvPr/>
          </p:nvGrpSpPr>
          <p:grpSpPr>
            <a:xfrm>
              <a:off x="2612880" y="3809880"/>
              <a:ext cx="1524240" cy="1726560"/>
              <a:chOff x="2612880" y="3809880"/>
              <a:chExt cx="1524240" cy="1726560"/>
            </a:xfrm>
          </p:grpSpPr>
          <p:sp>
            <p:nvSpPr>
              <p:cNvPr id="244" name=""/>
              <p:cNvSpPr/>
              <p:nvPr/>
            </p:nvSpPr>
            <p:spPr>
              <a:xfrm>
                <a:off x="2624040" y="380988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24040" y="4824000"/>
                <a:ext cx="1500840" cy="712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61288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37120" y="4178160"/>
                <a:ext cx="0" cy="990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462400" y="5644800"/>
              <a:ext cx="2037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Repositor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ISO 10303 (STEP)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11 : EXP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anguage reference man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1 : Data exchange fi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lear text encoding exchang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echnical Corundum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22 :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ndard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a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cess </a:t>
            </a:r>
            <a:r>
              <a:rPr b="0" lang="en-GB" sz="3200" spc="-1" strike="noStrike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lus language bindings (Part 23 = C++, Part 24 =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 41-49 : Integrated Generic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The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Development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Process</a:t>
            </a:r>
            <a:endParaRPr b="1" lang="en-US" sz="8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98960" y="5410080"/>
            <a:ext cx="29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An Export Transl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27432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94640" y="2514600"/>
            <a:ext cx="175500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259" name=""/>
            <p:cNvGrpSpPr/>
            <p:nvPr/>
          </p:nvGrpSpPr>
          <p:grpSpPr>
            <a:xfrm>
              <a:off x="990720" y="4724280"/>
              <a:ext cx="7010280" cy="1524240"/>
              <a:chOff x="990720" y="4724280"/>
              <a:chExt cx="7010280" cy="15242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990720" y="4724280"/>
                <a:ext cx="2133360" cy="1524240"/>
                <a:chOff x="990720" y="4724280"/>
                <a:chExt cx="2133360" cy="1524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990720" y="4724280"/>
                  <a:ext cx="213336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524600" y="4876920"/>
                  <a:ext cx="12672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ative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867280" y="4724280"/>
                <a:ext cx="2133720" cy="1524240"/>
                <a:chOff x="5867280" y="4724280"/>
                <a:chExt cx="2133720" cy="15242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867280" y="4724280"/>
                  <a:ext cx="2133720" cy="1524240"/>
                </a:xfrm>
                <a:prstGeom prst="cloudCallout">
                  <a:avLst>
                    <a:gd name="adj1" fmla="val 13467"/>
                    <a:gd name="adj2" fmla="val -50939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096600" y="4876920"/>
                  <a:ext cx="146988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Neutral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ata</a:t>
                  </a:r>
                  <a:endParaRPr b="0" lang="en-US" sz="3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3200400" y="5105520"/>
              <a:ext cx="2590920" cy="685800"/>
            </a:xfrm>
            <a:prstGeom prst="rightArrow">
              <a:avLst>
                <a:gd name="adj1" fmla="val 50000"/>
                <a:gd name="adj2" fmla="val 94449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RANSL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ort Translator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34920" y="2152800"/>
            <a:ext cx="6962760" cy="3800160"/>
          </a:xfrm>
          <a:prstGeom prst="rightArrow">
            <a:avLst>
              <a:gd name="adj1" fmla="val 50000"/>
              <a:gd name="adj2" fmla="val 916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840" y="3325680"/>
            <a:ext cx="1108080" cy="1454040"/>
            <a:chOff x="3255840" y="3325680"/>
            <a:chExt cx="1108080" cy="1454040"/>
          </a:xfrm>
        </p:grpSpPr>
        <p:sp>
          <p:nvSpPr>
            <p:cNvPr id="272" name=""/>
            <p:cNvSpPr/>
            <p:nvPr/>
          </p:nvSpPr>
          <p:spPr>
            <a:xfrm>
              <a:off x="3267360" y="3325680"/>
              <a:ext cx="1084680" cy="59688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67360" y="4182480"/>
              <a:ext cx="1084680" cy="597240"/>
            </a:xfrm>
            <a:prstGeom prst="ellipse">
              <a:avLst/>
            </a:prstGeom>
            <a:noFill/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5584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637080"/>
              <a:ext cx="0" cy="8308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 rot="16200000">
            <a:off x="2382120" y="3734280"/>
            <a:ext cx="12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DA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53000" y="3441600"/>
            <a:ext cx="2332080" cy="1222560"/>
          </a:xfrm>
          <a:prstGeom prst="rightArrow">
            <a:avLst>
              <a:gd name="adj1" fmla="val 75000"/>
              <a:gd name="adj2" fmla="val 95385"/>
            </a:avLst>
          </a:prstGeom>
          <a:noFill/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06560" y="3589200"/>
            <a:ext cx="12103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Wr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19240" y="3519360"/>
            <a:ext cx="1501560" cy="1067040"/>
          </a:xfrm>
          <a:prstGeom prst="rect">
            <a:avLst/>
          </a:prstGeom>
          <a:solidFill>
            <a:srgbClr val="47474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30400" y="3570120"/>
            <a:ext cx="1460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72720" y="5181480"/>
            <a:ext cx="1916640" cy="915840"/>
            <a:chOff x="972720" y="5181480"/>
            <a:chExt cx="1916640" cy="915840"/>
          </a:xfrm>
        </p:grpSpPr>
        <p:sp>
          <p:nvSpPr>
            <p:cNvPr id="282" name=""/>
            <p:cNvSpPr/>
            <p:nvPr/>
          </p:nvSpPr>
          <p:spPr>
            <a:xfrm rot="16200000">
              <a:off x="1600200" y="4647960"/>
              <a:ext cx="457200" cy="15242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39600 h 1524240"/>
                <a:gd name="textAreaBottom" fmla="*/ 1484640 h 15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72720" y="5637600"/>
              <a:ext cx="191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Hand Cod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191120" y="1675080"/>
            <a:ext cx="4468320" cy="2058840"/>
            <a:chOff x="4191120" y="1675080"/>
            <a:chExt cx="4468320" cy="2058840"/>
          </a:xfrm>
        </p:grpSpPr>
        <p:sp>
          <p:nvSpPr>
            <p:cNvPr id="285" name=""/>
            <p:cNvSpPr/>
            <p:nvPr/>
          </p:nvSpPr>
          <p:spPr>
            <a:xfrm>
              <a:off x="6459480" y="1675080"/>
              <a:ext cx="219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Gener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Bookman Old Style"/>
                </a:rPr>
                <a:t>Automatical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400800" y="2514600"/>
              <a:ext cx="838080" cy="1219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4191120" y="2438280"/>
              <a:ext cx="2133360" cy="99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6073560" y="5103720"/>
            <a:ext cx="21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Reliable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maintain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00"/>
                </a:solidFill>
                <a:latin typeface="Bookman Old Style"/>
              </a:rPr>
              <a:t>trans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3720" y="1905120"/>
            <a:ext cx="1066680" cy="990360"/>
          </a:xfrm>
          <a:prstGeom prst="verticalScrol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1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895480" y="2895120"/>
            <a:ext cx="5943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iarisation with CIS/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57200" y="1828800"/>
            <a:ext cx="2459160" cy="3324600"/>
            <a:chOff x="457200" y="1828800"/>
            <a:chExt cx="2459160" cy="33246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245916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686160" y="45720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 Data Exchan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199680" y="457200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124080" y="2514600"/>
            <a:ext cx="4525560" cy="1191240"/>
            <a:chOff x="3124080" y="2514600"/>
            <a:chExt cx="4525560" cy="1191240"/>
          </a:xfrm>
        </p:grpSpPr>
        <p:sp>
          <p:nvSpPr>
            <p:cNvPr id="53" name=""/>
            <p:cNvSpPr/>
            <p:nvPr/>
          </p:nvSpPr>
          <p:spPr>
            <a:xfrm>
              <a:off x="3124080" y="2743200"/>
              <a:ext cx="2514600" cy="762120"/>
            </a:xfrm>
            <a:prstGeom prst="rightArrow">
              <a:avLst>
                <a:gd name="adj1" fmla="val 50000"/>
                <a:gd name="adj2" fmla="val 82487"/>
              </a:avLst>
            </a:prstGeom>
            <a:solidFill>
              <a:srgbClr val="969696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</a:rPr>
                <a:t>EXPOR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94640" y="25146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88000" y="43434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894640" y="3809880"/>
            <a:ext cx="1755000" cy="1724760"/>
            <a:chOff x="5894640" y="3809880"/>
            <a:chExt cx="1755000" cy="1724760"/>
          </a:xfrm>
        </p:grpSpPr>
        <p:sp>
          <p:nvSpPr>
            <p:cNvPr id="57" name=""/>
            <p:cNvSpPr/>
            <p:nvPr/>
          </p:nvSpPr>
          <p:spPr>
            <a:xfrm>
              <a:off x="5894640" y="4343400"/>
              <a:ext cx="1755000" cy="1191240"/>
            </a:xfrm>
            <a:prstGeom prst="rect">
              <a:avLst/>
            </a:prstGeom>
            <a:solidFill>
              <a:srgbClr val="969696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xchange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00800" y="3809880"/>
              <a:ext cx="83808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2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5867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lin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ustrial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CC Combination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ket requir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consid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practic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86400" y="1828800"/>
            <a:ext cx="3048120" cy="3553200"/>
            <a:chOff x="5486400" y="1828800"/>
            <a:chExt cx="3048120" cy="3553200"/>
          </a:xfrm>
        </p:grpSpPr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5486400" y="1828800"/>
              <a:ext cx="30481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6630120" y="48006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3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09680" y="37339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ecify Data mapp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re does each data item come from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abular present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fi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he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57200" y="1752480"/>
            <a:ext cx="5797080" cy="1866960"/>
            <a:chOff x="457200" y="1752480"/>
            <a:chExt cx="5797080" cy="186696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457200" y="1752480"/>
              <a:ext cx="350532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267440" y="25146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Walkthrough 4 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se the L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mapping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 file out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and deb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ormance 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38680" y="2025720"/>
            <a:ext cx="3124440" cy="3356280"/>
            <a:chOff x="5638680" y="2025720"/>
            <a:chExt cx="3124440" cy="3356280"/>
          </a:xfrm>
        </p:grpSpPr>
        <p:pic>
          <p:nvPicPr>
            <p:cNvPr id="308" name="" descr=""/>
            <p:cNvPicPr/>
            <p:nvPr/>
          </p:nvPicPr>
          <p:blipFill>
            <a:blip r:embed="rId1"/>
            <a:stretch/>
          </p:blipFill>
          <p:spPr>
            <a:xfrm>
              <a:off x="5638680" y="2025720"/>
              <a:ext cx="312444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6173280" y="480060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Process Summary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71960" y="2362320"/>
            <a:ext cx="1471320" cy="1500120"/>
            <a:chOff x="1371960" y="2362320"/>
            <a:chExt cx="1471320" cy="1500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1447920" y="2362320"/>
              <a:ext cx="13953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371960" y="289548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tud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915480" y="4572000"/>
            <a:ext cx="2212200" cy="1558800"/>
            <a:chOff x="915480" y="4572000"/>
            <a:chExt cx="2212200" cy="155880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990360" y="4572000"/>
              <a:ext cx="198144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915480" y="5076720"/>
              <a:ext cx="22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Implemen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324480" y="4876920"/>
            <a:ext cx="1987200" cy="1014120"/>
            <a:chOff x="6324480" y="4876920"/>
            <a:chExt cx="1987200" cy="1014120"/>
          </a:xfrm>
        </p:grpSpPr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324480" y="4876920"/>
              <a:ext cx="190476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6324840" y="5014800"/>
              <a:ext cx="19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Map Da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629400" y="2362320"/>
            <a:ext cx="1400760" cy="1236600"/>
            <a:chOff x="6629400" y="2362320"/>
            <a:chExt cx="1400760" cy="1236600"/>
          </a:xfrm>
        </p:grpSpPr>
        <p:pic>
          <p:nvPicPr>
            <p:cNvPr id="321" name="" descr=""/>
            <p:cNvPicPr/>
            <p:nvPr/>
          </p:nvPicPr>
          <p:blipFill>
            <a:blip r:embed="rId4"/>
            <a:stretch/>
          </p:blipFill>
          <p:spPr>
            <a:xfrm>
              <a:off x="6629400" y="2362320"/>
              <a:ext cx="1371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6630120" y="275580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00"/>
                  </a:solidFill>
                  <a:latin typeface="Arial"/>
                </a:rPr>
                <a:t>Scop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29000" y="304812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429000" y="5181480"/>
            <a:ext cx="27432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315200" y="3886200"/>
            <a:ext cx="0" cy="762120"/>
          </a:xfrm>
          <a:prstGeom prst="line">
            <a:avLst/>
          </a:prstGeom>
          <a:ln w="38160">
            <a:solidFill>
              <a:srgbClr val="00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End</a:t>
            </a:r>
            <a:endParaRPr b="1" lang="en-US" sz="7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8000" y="2514600"/>
            <a:ext cx="177336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362320"/>
            <a:ext cx="2514600" cy="761760"/>
          </a:xfrm>
          <a:prstGeom prst="rightArrow">
            <a:avLst>
              <a:gd name="adj1" fmla="val 50000"/>
              <a:gd name="adj2" fmla="val 82526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123360" y="3124080"/>
            <a:ext cx="2514600" cy="762120"/>
          </a:xfrm>
          <a:prstGeom prst="rightArrow">
            <a:avLst>
              <a:gd name="adj1" fmla="val 50000"/>
              <a:gd name="adj2" fmla="val 82487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M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12200" y="2514600"/>
            <a:ext cx="1909080" cy="1191240"/>
          </a:xfrm>
          <a:prstGeom prst="rect">
            <a:avLst/>
          </a:prstGeom>
          <a:solidFill>
            <a:srgbClr val="969696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S/2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grpSp>
          <p:nvGrpSpPr>
            <p:cNvPr id="65" name=""/>
            <p:cNvGrpSpPr/>
            <p:nvPr/>
          </p:nvGrpSpPr>
          <p:grpSpPr>
            <a:xfrm>
              <a:off x="990720" y="4724280"/>
              <a:ext cx="2133360" cy="1524240"/>
              <a:chOff x="990720" y="4724280"/>
              <a:chExt cx="2133360" cy="152424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724280"/>
                <a:ext cx="213336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24600" y="4876920"/>
                <a:ext cx="12672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ative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867280" y="4724280"/>
              <a:ext cx="2133720" cy="1524240"/>
              <a:chOff x="5867280" y="4724280"/>
              <a:chExt cx="2133720" cy="1524240"/>
            </a:xfrm>
          </p:grpSpPr>
          <p:sp>
            <p:nvSpPr>
              <p:cNvPr id="69" name=""/>
              <p:cNvSpPr/>
              <p:nvPr/>
            </p:nvSpPr>
            <p:spPr>
              <a:xfrm>
                <a:off x="5867280" y="4724280"/>
                <a:ext cx="2133720" cy="1524240"/>
              </a:xfrm>
              <a:prstGeom prst="cloudCallout">
                <a:avLst>
                  <a:gd name="adj1" fmla="val 13467"/>
                  <a:gd name="adj2" fmla="val -50939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6600" y="4876920"/>
                <a:ext cx="14698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Neutr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3200400" y="5105520"/>
            <a:ext cx="2590920" cy="685800"/>
          </a:xfrm>
          <a:prstGeom prst="leftRightArrow">
            <a:avLst>
              <a:gd name="adj1" fmla="val 50000"/>
              <a:gd name="adj2" fmla="val 75209"/>
            </a:avLst>
          </a:prstGeom>
          <a:solidFill>
            <a:srgbClr val="96969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ANS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047760" y="4038480"/>
            <a:ext cx="4724280" cy="970920"/>
            <a:chOff x="3047760" y="4038480"/>
            <a:chExt cx="4724280" cy="970920"/>
          </a:xfrm>
        </p:grpSpPr>
        <p:sp>
          <p:nvSpPr>
            <p:cNvPr id="73" name=""/>
            <p:cNvSpPr/>
            <p:nvPr/>
          </p:nvSpPr>
          <p:spPr>
            <a:xfrm rot="5400000">
              <a:off x="5219280" y="1866600"/>
              <a:ext cx="381240" cy="47242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123120 h 4724280"/>
                <a:gd name="textAreaBottom" fmla="*/ 4601160 h 472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0960" y="4549680"/>
              <a:ext cx="20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IS/2 Specif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5" name=""/>
          <p:cNvGraphicFramePr/>
          <p:nvPr/>
        </p:nvGraphicFramePr>
        <p:xfrm>
          <a:off x="1827360" y="3359160"/>
          <a:ext cx="5487840" cy="13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7360" y="3359160"/>
                    <a:ext cx="5487840" cy="1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79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666880"/>
            <a:ext cx="2743200" cy="1524240"/>
          </a:xfrm>
          <a:prstGeom prst="wedgeRoundRectCallout">
            <a:avLst>
              <a:gd name="adj1" fmla="val 3240"/>
              <a:gd name="adj2" fmla="val 87291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ication’s 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ata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819520"/>
            <a:ext cx="17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IS/2 Translator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4724280"/>
            <a:ext cx="7010280" cy="1524240"/>
            <a:chOff x="990720" y="4724280"/>
            <a:chExt cx="7010280" cy="1524240"/>
          </a:xfrm>
        </p:grpSpPr>
        <p:sp>
          <p:nvSpPr>
            <p:cNvPr id="87" name=""/>
            <p:cNvSpPr/>
            <p:nvPr/>
          </p:nvSpPr>
          <p:spPr>
            <a:xfrm>
              <a:off x="5867280" y="4724280"/>
              <a:ext cx="213372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90720" y="4724280"/>
              <a:ext cx="2133360" cy="1524240"/>
            </a:xfrm>
            <a:prstGeom prst="cloudCallout">
              <a:avLst>
                <a:gd name="adj1" fmla="val 13467"/>
                <a:gd name="adj2" fmla="val -5093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1524600" y="4876920"/>
            <a:ext cx="126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6600" y="4876920"/>
            <a:ext cx="146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2666880"/>
            <a:ext cx="2514600" cy="1524240"/>
          </a:xfrm>
          <a:prstGeom prst="wedgeRoundRectCallout">
            <a:avLst>
              <a:gd name="adj1" fmla="val -569"/>
              <a:gd name="adj2" fmla="val 88023"/>
              <a:gd name="adj3" fmla="val 166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overned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CIS/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duct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1600" y="30481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IS Exchange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Data Reposi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CIS/2 Product Model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PM/5”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gical Product Model version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 and Complex information mod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ineering and production of Steel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ly defined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6483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Express DDL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09680"/>
            <a:ext cx="83059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Courier New"/>
              </a:rPr>
              <a:t>boundary_condition_spring_line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PERTYPE OF (boundary_condition_warpin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UBTYPE OF (boundary_condi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displacement : OPTIONAL linear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x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y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c_z_rotation : OPTIONAL rotational_stiffness_measure_with_uni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0 : EXISTS (bc_x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y_displacement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displacement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RB11 : EXISTS (bc_x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 (bc_y_rotation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OR EXISTS (bc_z_rotat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_ENTITY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23:30:44Z</dcterms:created>
  <dc:creator>Alastair Watson</dc:creator>
  <dc:description/>
  <dc:language>en-US</dc:language>
  <cp:lastModifiedBy>Alastair Watson</cp:lastModifiedBy>
  <cp:lastPrinted>1999-06-19T15:36:00Z</cp:lastPrinted>
  <dcterms:modified xsi:type="dcterms:W3CDTF">1999-06-23T00:34:30Z</dcterms:modified>
  <cp:revision>23</cp:revision>
  <dc:subject/>
  <dc:title>AISC CIS/2  Workshop #I</dc:title>
</cp:coreProperties>
</file>